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AC6-12FB-474F-A591-F1D83CA8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2280" y="381816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13A-57CC-4563-A243-A5F1C15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036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7B9-B29E-4122-804B-7149A07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8952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6400" y="129492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228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8952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6400" y="381816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834-97E8-4FE1-BE67-19F63423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D0E-E01B-418F-930E-F5F05616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03C-2130-4F89-BEA5-19AEE8A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57E-A469-4794-9BFE-A0E7A777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BE4-1E0C-48A0-A33A-A641DF5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DC9-53DB-45DF-84A7-C706F9D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FAB-2716-445C-8CD7-6A100FD6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03680" y="381816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08D-2F22-48B8-B56B-9373ADF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81816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F0B-AEF8-40DF-9017-5CBD538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81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67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53E4-A541-4E8C-9777-1875401B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2" name=""/>
          <p:cNvGrpSpPr/>
          <p:nvPr/>
        </p:nvGrpSpPr>
        <p:grpSpPr>
          <a:xfrm>
            <a:off x="6095880" y="3108240"/>
            <a:ext cx="2971800" cy="2606400"/>
            <a:chOff x="6095880" y="3108240"/>
            <a:chExt cx="2971800" cy="2606400"/>
          </a:xfrm>
        </p:grpSpPr>
        <p:pic>
          <p:nvPicPr>
            <p:cNvPr id="13" name="" descr="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6324480" y="3260520"/>
              <a:ext cx="2743200" cy="24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6095880" y="3108240"/>
              <a:ext cx="121896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OMEN’s GOLFWEA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roup 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Kathy Cheng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Gregory Day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tchayanee Dejkraisa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rika Max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ela Ra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4B48-EA52-4917-ABEB-6641CFD7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791320" y="2590920"/>
            <a:ext cx="2971800" cy="2606400"/>
            <a:chOff x="5791320" y="2590920"/>
            <a:chExt cx="2971800" cy="2606400"/>
          </a:xfrm>
        </p:grpSpPr>
        <p:pic>
          <p:nvPicPr>
            <p:cNvPr id="67" name="" descr="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6019920" y="2743200"/>
              <a:ext cx="2743200" cy="24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91320" y="2590920"/>
              <a:ext cx="121896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ther considera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o many SKUs to man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ver has lots of limit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 Simulated Scenari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olutionary Solver - to deal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timization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ystal Ball: To account for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riation in demand on profit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en the solution fro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volutionary sol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Model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828800"/>
            <a:ext cx="129564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362320"/>
            <a:ext cx="1600200" cy="22860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j Functio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profit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lding Cost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514600"/>
            <a:ext cx="129528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276720"/>
            <a:ext cx="129528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971800"/>
            <a:ext cx="160020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cision V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derin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2" idx="3"/>
            <a:endCxn id="106" idx="1"/>
          </p:cNvCxnSpPr>
          <p:nvPr/>
        </p:nvCxnSpPr>
        <p:spPr>
          <a:xfrm>
            <a:off x="1690560" y="2209320"/>
            <a:ext cx="5814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3"/>
            <a:endCxn id="106" idx="1"/>
          </p:cNvCxnSpPr>
          <p:nvPr/>
        </p:nvCxnSpPr>
        <p:spPr>
          <a:xfrm flipV="1">
            <a:off x="1614240" y="3351960"/>
            <a:ext cx="6577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572000" y="3505320"/>
            <a:ext cx="129528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6" idx="3"/>
            <a:endCxn id="104" idx="1"/>
          </p:cNvCxnSpPr>
          <p:nvPr/>
        </p:nvCxnSpPr>
        <p:spPr>
          <a:xfrm flipV="1">
            <a:off x="3900240" y="2895120"/>
            <a:ext cx="6577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9" idx="1"/>
          </p:cNvCxnSpPr>
          <p:nvPr/>
        </p:nvCxnSpPr>
        <p:spPr>
          <a:xfrm>
            <a:off x="3900240" y="3352680"/>
            <a:ext cx="657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304920" y="4572000"/>
            <a:ext cx="129528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3"/>
            <a:endCxn id="106" idx="1"/>
          </p:cNvCxnSpPr>
          <p:nvPr/>
        </p:nvCxnSpPr>
        <p:spPr>
          <a:xfrm flipV="1">
            <a:off x="1614240" y="3351960"/>
            <a:ext cx="65772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95880" y="312408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A66-6504-4AED-AC23-1B25F2B6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Evolutionary Solve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38280" y="1447920"/>
            <a:ext cx="3657600" cy="1066680"/>
          </a:xfrm>
          <a:prstGeom prst="wedgeRoundRectCallout">
            <a:avLst>
              <a:gd name="adj1" fmla="val 60199"/>
              <a:gd name="adj2" fmla="val 18393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order quantity per week based on the averag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676520"/>
            <a:ext cx="1600200" cy="533160"/>
          </a:xfrm>
          <a:prstGeom prst="wedgeRoundRectCallout">
            <a:avLst>
              <a:gd name="adj1" fmla="val 17657"/>
              <a:gd name="adj2" fmla="val 229763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676520"/>
            <a:ext cx="1828800" cy="533160"/>
          </a:xfrm>
          <a:prstGeom prst="wedgeRoundRectCallout">
            <a:avLst>
              <a:gd name="adj1" fmla="val -38365"/>
              <a:gd name="adj2" fmla="val 2080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1752480"/>
            <a:ext cx="1600200" cy="533520"/>
          </a:xfrm>
          <a:prstGeom prst="wedgeRoundRectCallout">
            <a:avLst>
              <a:gd name="adj1" fmla="val -155953"/>
              <a:gd name="adj2" fmla="val 2050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BB32-3D1B-4F7A-87CF-3899E44B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152280" y="3054240"/>
            <a:ext cx="8686800" cy="1312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5029200"/>
            <a:ext cx="2133720" cy="533520"/>
          </a:xfrm>
          <a:prstGeom prst="wedgeRoundRectCallout">
            <a:avLst>
              <a:gd name="adj1" fmla="val 20685"/>
              <a:gd name="adj2" fmla="val -2925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sult – Crystal Ball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362320"/>
          <a:ext cx="426744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426744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7160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848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74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3FA4-DB34-49B2-8BA9-DCC96350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4400" y="6084720"/>
            <a:ext cx="1143000" cy="736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300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443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157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4586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5729400" y="60958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6872400" y="608976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>
            <a:off x="8029440" y="6089760"/>
            <a:ext cx="1143000" cy="739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1168560"/>
            <a:ext cx="8686800" cy="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5334120" y="2362320"/>
            <a:ext cx="3062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Recommendation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ommendation on Busi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and can not always be met given profit maximization objecti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mited store capacity implies that company should concentrate on high margin produ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ommendation on Mode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and model to cover the entire produ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360 items) with a longer perio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orporate minimum service leve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orporate yearly and weekl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asonality of the Mod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09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Questions &amp; Answer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men’s Golfwe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siness Object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Mod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lusion and Recommend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The Women’s Golfwear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usiness Overvie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rt-up compa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lete line of women’s golfwear with 15 produ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mall retail store with limited stora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products from wholesal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Business Objective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ximize profits b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delivery co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holding cost of inven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imize the inventory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termine the optimal order quantity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ximize prof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quant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rage 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der capac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ch product has a demand pattern (mean &amp; SD) based on the forec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mand of Product i = Normal Distribu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2940120" y="3138480"/>
            <a:ext cx="1981080" cy="762120"/>
          </a:xfrm>
          <a:custGeom>
            <a:avLst/>
            <a:gdLst/>
            <a:ahLst/>
            <a:rect l="l" t="t" r="r" b="b"/>
            <a:pathLst>
              <a:path w="1248" h="816">
                <a:moveTo>
                  <a:pt x="0" y="816"/>
                </a:moveTo>
                <a:cubicBezTo>
                  <a:pt x="556" y="810"/>
                  <a:pt x="368" y="0"/>
                  <a:pt x="576" y="0"/>
                </a:cubicBezTo>
                <a:cubicBezTo>
                  <a:pt x="784" y="0"/>
                  <a:pt x="556" y="801"/>
                  <a:pt x="1248" y="816"/>
                </a:cubicBezTo>
                <a:cubicBezTo>
                  <a:pt x="1248" y="816"/>
                  <a:pt x="0" y="816"/>
                  <a:pt x="0" y="81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54520" y="3062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06560" y="290988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Mea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and of Produc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466236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t , Skirt , Shor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5920" y="40528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Formulation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fit = Gross Profit – Ordering cost –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lding Cos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ss Profi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新細明體"/>
              </a:rPr>
              <a:t> Gross margi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x Unit sol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i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der Co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新細明體"/>
              </a:rPr>
              <a:t>Fixed Cost / Ord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olding Co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Average inventory x COG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 Opportunity Cost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Working Capit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Solution Methodology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4348080" y="2627280"/>
            <a:ext cx="2036880" cy="1444680"/>
          </a:xfrm>
          <a:custGeom>
            <a:avLst/>
            <a:gdLst/>
            <a:ahLst/>
            <a:rect l="l" t="t" r="r" b="b"/>
            <a:pathLst>
              <a:path w="1283" h="910">
                <a:moveTo>
                  <a:pt x="23" y="0"/>
                </a:moveTo>
                <a:cubicBezTo>
                  <a:pt x="54" y="115"/>
                  <a:pt x="0" y="551"/>
                  <a:pt x="210" y="693"/>
                </a:cubicBezTo>
                <a:cubicBezTo>
                  <a:pt x="455" y="910"/>
                  <a:pt x="1060" y="817"/>
                  <a:pt x="1283" y="8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3124080"/>
            <a:ext cx="2666880" cy="1600200"/>
          </a:xfrm>
          <a:prstGeom prst="rect">
            <a:avLst/>
          </a:prstGeom>
          <a:solidFill>
            <a:srgbClr val="c0c0c0">
              <a:alpha val="62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Ru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 for each S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9560" y="350532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em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2760" y="21337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ekly Demand (Mean &amp; 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33680" y="52578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3886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724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7000" y="137160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the running Inventory wo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209680"/>
            <a:ext cx="1981080" cy="1067040"/>
          </a:xfrm>
          <a:prstGeom prst="wedgeRoundRectCallout">
            <a:avLst>
              <a:gd name="adj1" fmla="val -125162"/>
              <a:gd name="adj2" fmla="val 77231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inventory to meet dem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6:23:57Z</dcterms:created>
  <dc:creator>Matchayanee Dejkraisak</dc:creator>
  <dc:description/>
  <dc:language>en-US</dc:language>
  <cp:lastModifiedBy>Kathy Cheng</cp:lastModifiedBy>
  <dcterms:modified xsi:type="dcterms:W3CDTF">2005-12-05T14:05:39Z</dcterms:modified>
  <cp:revision>73</cp:revision>
  <dc:subject/>
  <dc:title>Slide 1</dc:title>
</cp:coreProperties>
</file>